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0.gif" ContentType="image/gif"/>
  <Override PartName="/ppt/media/cashreg.wav" ContentType="audio/x-wav"/>
  <Override PartName="/ppt/media/image15.gif" ContentType="image/gif"/>
  <Override PartName="/ppt/media/image14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4.png" ContentType="image/png"/>
  <Override PartName="/ppt/media/image6.jpeg" ContentType="image/jpeg"/>
  <Override PartName="/ppt/media/image7.gif" ContentType="image/gif"/>
  <Override PartName="/ppt/media/image3.jpeg" ContentType="image/jpeg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3EC-ED2F-464D-82E1-19B2B032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E3C-843E-4BA9-A46A-D2DAB3FE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80B-1AA2-4F7A-8FE0-7741C4AD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BB2-0DF0-4C38-87FD-149C68D3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3D6-15B2-4F63-B8A2-859AD235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D20-00E5-444D-AC09-5118C51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0D7-7D21-4363-83C4-C0E2B9A4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477-6631-4999-936C-82050D9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2966-A2A1-4C7F-A69B-6B8AF14D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AE37-8E95-453D-AFB1-4486F6B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4C0-BCDC-4A66-9363-022D6280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5DD-B5CE-40C5-BBAF-ED1187F9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7AC3-DD00-495C-885F-D15BE9AAE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penny2.html" TargetMode="External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"/><Relationship Id="rId4" Type="http://schemas.openxmlformats.org/officeDocument/2006/relationships/slide" Target="slide8.xml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hyperlink" Target="http://www.animationfactory.com/en/samples.mc" TargetMode="External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Identificaţi dreptunghiur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042920" y="1989000"/>
            <a:ext cx="1008000" cy="201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3995640" y="1773360"/>
            <a:ext cx="42483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4284720" y="4581360"/>
            <a:ext cx="108108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/>
          </p:cNvPr>
          <p:cNvSpPr/>
          <p:nvPr/>
        </p:nvSpPr>
        <p:spPr>
          <a:xfrm>
            <a:off x="3492360" y="3068640"/>
            <a:ext cx="1224000" cy="12970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724280"/>
            <a:ext cx="43164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6877080" y="2492280"/>
            <a:ext cx="1008000" cy="2160720"/>
          </a:xfrm>
          <a:prstGeom prst="triangle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2484360" y="5013360"/>
            <a:ext cx="2808360" cy="11523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/>
          </p:cNvPr>
          <p:cNvSpPr/>
          <p:nvPr/>
        </p:nvSpPr>
        <p:spPr>
          <a:xfrm>
            <a:off x="250920" y="4292640"/>
            <a:ext cx="1800000" cy="1297080"/>
          </a:xfrm>
          <a:prstGeom prst="parallelogram">
            <a:avLst>
              <a:gd name="adj" fmla="val 34693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028000" y="260280"/>
            <a:ext cx="900000" cy="1224000"/>
          </a:xfrm>
          <a:custGeom>
            <a:avLst/>
            <a:gdLst>
              <a:gd name="textAreaLeft" fmla="*/ 225000 w 900000"/>
              <a:gd name="textAreaRight" fmla="*/ 675000 w 900000"/>
              <a:gd name="textAreaTop" fmla="*/ 225000 h 1224000"/>
              <a:gd name="textAreaBottom" fmla="*/ 999000 h 1224000"/>
            </a:gdLst>
            <a:ahLst/>
            <a:rect l="textAreaLeft" t="textAreaTop" r="textAreaRight" b="textAreaBottom"/>
            <a:pathLst>
              <a:path w="21600" h="29373">
                <a:moveTo>
                  <a:pt x="0" y="0"/>
                </a:moveTo>
                <a:lnTo>
                  <a:pt x="21600" y="0"/>
                </a:lnTo>
                <a:lnTo>
                  <a:pt x="21600" y="29373"/>
                </a:lnTo>
                <a:lnTo>
                  <a:pt x="0" y="29373"/>
                </a:lnTo>
                <a:close/>
              </a:path>
              <a:path fill="lightenLess" w="21600" h="2937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9373">
                <a:moveTo>
                  <a:pt x="21600" y="0"/>
                </a:moveTo>
                <a:lnTo>
                  <a:pt x="21600" y="29373"/>
                </a:lnTo>
                <a:lnTo>
                  <a:pt x="16200" y="23973"/>
                </a:lnTo>
                <a:lnTo>
                  <a:pt x="16200" y="5400"/>
                </a:lnTo>
                <a:close/>
              </a:path>
              <a:path fill="darkenLess" w="21600" h="29373">
                <a:moveTo>
                  <a:pt x="21600" y="29373"/>
                </a:moveTo>
                <a:lnTo>
                  <a:pt x="0" y="29373"/>
                </a:lnTo>
                <a:lnTo>
                  <a:pt x="5400" y="23973"/>
                </a:lnTo>
                <a:lnTo>
                  <a:pt x="16200" y="23973"/>
                </a:lnTo>
                <a:close/>
              </a:path>
              <a:path fill="lighten" w="21600" h="29373">
                <a:moveTo>
                  <a:pt x="0" y="29373"/>
                </a:moveTo>
                <a:lnTo>
                  <a:pt x="0" y="0"/>
                </a:lnTo>
                <a:lnTo>
                  <a:pt x="5400" y="5400"/>
                </a:lnTo>
                <a:lnTo>
                  <a:pt x="5400" y="23973"/>
                </a:lnTo>
                <a:close/>
              </a:path>
              <a:path fill="darken" w="21600" h="29373">
                <a:moveTo>
                  <a:pt x="6775" y="10661"/>
                </a:moveTo>
                <a:lnTo>
                  <a:pt x="14825" y="14686"/>
                </a:lnTo>
                <a:lnTo>
                  <a:pt x="6775" y="18711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3860640"/>
            <a:ext cx="8229600" cy="25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73440" cy="359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476280"/>
            <a:ext cx="3889440" cy="2808360"/>
          </a:xfrm>
          <a:prstGeom prst="wedgeEllipseCallout">
            <a:avLst>
              <a:gd name="adj1" fmla="val 86777"/>
              <a:gd name="adj2" fmla="val -6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692280"/>
            <a:ext cx="273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</a:rPr>
              <a:t>Ai reuşit să rezolvi toate probleme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Arial"/>
              </a:rPr>
              <a:t>FELICITĂR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VERIFICARE - dreptunghiur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1042920" y="1989000"/>
            <a:ext cx="1008000" cy="2016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3995640" y="1773360"/>
            <a:ext cx="4248360" cy="43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4284720" y="4581360"/>
            <a:ext cx="108108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028000" y="260280"/>
            <a:ext cx="900000" cy="1224000"/>
          </a:xfrm>
          <a:custGeom>
            <a:avLst/>
            <a:gdLst>
              <a:gd name="textAreaLeft" fmla="*/ 225000 w 900000"/>
              <a:gd name="textAreaRight" fmla="*/ 675000 w 900000"/>
              <a:gd name="textAreaTop" fmla="*/ 225000 h 1224000"/>
              <a:gd name="textAreaBottom" fmla="*/ 999000 h 1224000"/>
            </a:gdLst>
            <a:ahLst/>
            <a:rect l="textAreaLeft" t="textAreaTop" r="textAreaRight" b="textAreaBottom"/>
            <a:pathLst>
              <a:path w="21600" h="29373">
                <a:moveTo>
                  <a:pt x="0" y="0"/>
                </a:moveTo>
                <a:lnTo>
                  <a:pt x="21600" y="0"/>
                </a:lnTo>
                <a:lnTo>
                  <a:pt x="21600" y="29373"/>
                </a:lnTo>
                <a:lnTo>
                  <a:pt x="0" y="29373"/>
                </a:lnTo>
                <a:close/>
              </a:path>
              <a:path fill="lightenLess" w="21600" h="29373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9373">
                <a:moveTo>
                  <a:pt x="21600" y="0"/>
                </a:moveTo>
                <a:lnTo>
                  <a:pt x="21600" y="29373"/>
                </a:lnTo>
                <a:lnTo>
                  <a:pt x="16200" y="23973"/>
                </a:lnTo>
                <a:lnTo>
                  <a:pt x="16200" y="5400"/>
                </a:lnTo>
                <a:close/>
              </a:path>
              <a:path fill="darkenLess" w="21600" h="29373">
                <a:moveTo>
                  <a:pt x="21600" y="29373"/>
                </a:moveTo>
                <a:lnTo>
                  <a:pt x="0" y="29373"/>
                </a:lnTo>
                <a:lnTo>
                  <a:pt x="5400" y="23973"/>
                </a:lnTo>
                <a:lnTo>
                  <a:pt x="16200" y="23973"/>
                </a:lnTo>
                <a:close/>
              </a:path>
              <a:path fill="lighten" w="21600" h="29373">
                <a:moveTo>
                  <a:pt x="0" y="29373"/>
                </a:moveTo>
                <a:lnTo>
                  <a:pt x="0" y="0"/>
                </a:lnTo>
                <a:lnTo>
                  <a:pt x="5400" y="5400"/>
                </a:lnTo>
                <a:lnTo>
                  <a:pt x="5400" y="23973"/>
                </a:lnTo>
                <a:close/>
              </a:path>
              <a:path fill="darken" w="21600" h="29373">
                <a:moveTo>
                  <a:pt x="6775" y="10661"/>
                </a:moveTo>
                <a:lnTo>
                  <a:pt x="14825" y="14686"/>
                </a:lnTo>
                <a:lnTo>
                  <a:pt x="6775" y="18711"/>
                </a:lnTo>
                <a:close/>
              </a:path>
            </a:pathLst>
          </a:custGeom>
          <a:solidFill>
            <a:srgbClr val="99cc00"/>
          </a:solidFill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pen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981000"/>
            <a:ext cx="2640240" cy="3168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 ce formă geometrică seamăn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>
            <a:off x="7020000" y="1341360"/>
            <a:ext cx="1727280" cy="1511280"/>
          </a:xfrm>
          <a:custGeom>
            <a:avLst/>
            <a:gdLst>
              <a:gd name="textAreaLeft" fmla="*/ 97920 w 1727280"/>
              <a:gd name="textAreaRight" fmla="*/ 1629360 w 1727280"/>
              <a:gd name="textAreaTop" fmla="*/ 97920 h 1511280"/>
              <a:gd name="textAreaBottom" fmla="*/ 1413360 h 1511280"/>
            </a:gdLst>
            <a:ahLst/>
            <a:rect l="textAreaLeft" t="textAreaTop" r="textAreaRight" b="textAreaBottom"/>
            <a:pathLst>
              <a:path w="24686" h="21600">
                <a:moveTo>
                  <a:pt x="0" y="0"/>
                </a:moveTo>
                <a:lnTo>
                  <a:pt x="24686" y="0"/>
                </a:lnTo>
                <a:lnTo>
                  <a:pt x="24686" y="21600"/>
                </a:lnTo>
                <a:lnTo>
                  <a:pt x="0" y="21600"/>
                </a:lnTo>
                <a:close/>
              </a:path>
              <a:path fill="lightenLess" w="24686" h="21600">
                <a:moveTo>
                  <a:pt x="0" y="0"/>
                </a:moveTo>
                <a:lnTo>
                  <a:pt x="24686" y="0"/>
                </a:lnTo>
                <a:lnTo>
                  <a:pt x="23286" y="1400"/>
                </a:lnTo>
                <a:lnTo>
                  <a:pt x="1400" y="1400"/>
                </a:lnTo>
                <a:close/>
              </a:path>
              <a:path fill="darken" w="24686" h="21600">
                <a:moveTo>
                  <a:pt x="24686" y="0"/>
                </a:moveTo>
                <a:lnTo>
                  <a:pt x="24686" y="21600"/>
                </a:lnTo>
                <a:lnTo>
                  <a:pt x="23286" y="20200"/>
                </a:lnTo>
                <a:lnTo>
                  <a:pt x="23286" y="1400"/>
                </a:lnTo>
                <a:close/>
              </a:path>
              <a:path fill="darkenLess" w="24686" h="21600">
                <a:moveTo>
                  <a:pt x="246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6" y="20200"/>
                </a:lnTo>
                <a:close/>
              </a:path>
              <a:path fill="lighten" w="246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6" h="21600">
                <a:moveTo>
                  <a:pt x="5337" y="3794"/>
                </a:moveTo>
                <a:lnTo>
                  <a:pt x="19350" y="10800"/>
                </a:lnTo>
                <a:lnTo>
                  <a:pt x="5337" y="17806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1280" y="5084640"/>
            <a:ext cx="86364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5157720"/>
            <a:ext cx="172728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5219640" y="4941720"/>
            <a:ext cx="122400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013360"/>
            <a:ext cx="1295280" cy="1224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653000"/>
            <a:ext cx="936720" cy="172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bile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şte regula şi continuă şirul figurilor geometri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860640"/>
            <a:ext cx="792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716280"/>
            <a:ext cx="8654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3573360"/>
            <a:ext cx="1079640" cy="1008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59280" y="3789360"/>
            <a:ext cx="136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2764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7236000" y="2708280"/>
            <a:ext cx="1511280" cy="57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7524720" y="3357720"/>
            <a:ext cx="1008000" cy="1008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7596360" y="4581360"/>
            <a:ext cx="936360" cy="1008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667640" y="5661000"/>
            <a:ext cx="865080" cy="93672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343640" y="189000"/>
            <a:ext cx="1800360" cy="1295280"/>
          </a:xfrm>
          <a:custGeom>
            <a:avLst/>
            <a:gdLst>
              <a:gd name="textAreaLeft" fmla="*/ 83880 w 1800360"/>
              <a:gd name="textAreaRight" fmla="*/ 1716480 w 180036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0020" h="21600">
                <a:moveTo>
                  <a:pt x="0" y="0"/>
                </a:moveTo>
                <a:lnTo>
                  <a:pt x="30020" y="0"/>
                </a:lnTo>
                <a:lnTo>
                  <a:pt x="30020" y="21600"/>
                </a:lnTo>
                <a:lnTo>
                  <a:pt x="0" y="21600"/>
                </a:lnTo>
                <a:close/>
              </a:path>
              <a:path fill="lightenLess" w="30020" h="21600">
                <a:moveTo>
                  <a:pt x="0" y="0"/>
                </a:moveTo>
                <a:lnTo>
                  <a:pt x="30020" y="0"/>
                </a:lnTo>
                <a:lnTo>
                  <a:pt x="28620" y="1400"/>
                </a:lnTo>
                <a:lnTo>
                  <a:pt x="1400" y="1400"/>
                </a:lnTo>
                <a:close/>
              </a:path>
              <a:path fill="darken" w="30020" h="21600">
                <a:moveTo>
                  <a:pt x="30020" y="0"/>
                </a:moveTo>
                <a:lnTo>
                  <a:pt x="30020" y="21600"/>
                </a:lnTo>
                <a:lnTo>
                  <a:pt x="28620" y="20200"/>
                </a:lnTo>
                <a:lnTo>
                  <a:pt x="28620" y="1400"/>
                </a:lnTo>
                <a:close/>
              </a:path>
              <a:path fill="darkenLess" w="30020" h="21600">
                <a:moveTo>
                  <a:pt x="30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20" y="20200"/>
                </a:lnTo>
                <a:close/>
              </a:path>
              <a:path fill="lighten" w="30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20" h="21600">
                <a:moveTo>
                  <a:pt x="8004" y="3794"/>
                </a:moveTo>
                <a:lnTo>
                  <a:pt x="22017" y="10800"/>
                </a:lnTo>
                <a:lnTo>
                  <a:pt x="8004" y="17806"/>
                </a:lnTo>
                <a:close/>
              </a:path>
            </a:pathLst>
          </a:custGeom>
          <a:solidFill>
            <a:srgbClr val="99cc00"/>
          </a:solidFill>
          <a:ln w="414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Identifică corpul geometric care are faţa în formă de pătr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635280" y="2565360"/>
            <a:ext cx="115272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/>
          </p:cNvPr>
          <p:cNvSpPr/>
          <p:nvPr/>
        </p:nvSpPr>
        <p:spPr>
          <a:xfrm flipV="1" rot="16414800">
            <a:off x="5816520" y="4466160"/>
            <a:ext cx="2286000" cy="1072080"/>
          </a:xfrm>
          <a:prstGeom prst="triangle">
            <a:avLst>
              <a:gd name="adj" fmla="val 295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3"/>
          </p:cNvPr>
          <p:cNvSpPr/>
          <p:nvPr/>
        </p:nvSpPr>
        <p:spPr>
          <a:xfrm>
            <a:off x="2340000" y="4508640"/>
            <a:ext cx="2519280" cy="1512720"/>
          </a:xfrm>
          <a:prstGeom prst="cube">
            <a:avLst>
              <a:gd name="adj" fmla="val 43388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4"/>
          </p:cNvPr>
          <p:cNvSpPr/>
          <p:nvPr/>
        </p:nvSpPr>
        <p:spPr>
          <a:xfrm>
            <a:off x="1332000" y="2133720"/>
            <a:ext cx="936360" cy="1512720"/>
          </a:xfrm>
          <a:prstGeom prst="can">
            <a:avLst>
              <a:gd name="adj" fmla="val 35152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pyram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3716280"/>
            <a:ext cx="1500120" cy="180036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7380360" y="1125360"/>
            <a:ext cx="1512720" cy="172728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727280"/>
              <a:gd name="textAreaBottom" fmla="*/ 1629360 h 1727280"/>
            </a:gdLst>
            <a:ahLst/>
            <a:rect l="textAreaLeft" t="textAreaTop" r="textAreaRight" b="textAreaBottom"/>
            <a:pathLst>
              <a:path w="21600" h="24663">
                <a:moveTo>
                  <a:pt x="0" y="0"/>
                </a:moveTo>
                <a:lnTo>
                  <a:pt x="21600" y="0"/>
                </a:lnTo>
                <a:lnTo>
                  <a:pt x="21600" y="24663"/>
                </a:lnTo>
                <a:lnTo>
                  <a:pt x="0" y="24663"/>
                </a:lnTo>
                <a:close/>
              </a:path>
              <a:path fill="lightenLess" w="21600" h="2466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63">
                <a:moveTo>
                  <a:pt x="21600" y="0"/>
                </a:moveTo>
                <a:lnTo>
                  <a:pt x="21600" y="24663"/>
                </a:lnTo>
                <a:lnTo>
                  <a:pt x="20200" y="23263"/>
                </a:lnTo>
                <a:lnTo>
                  <a:pt x="20200" y="1400"/>
                </a:lnTo>
                <a:close/>
              </a:path>
              <a:path fill="darkenLess" w="21600" h="24663">
                <a:moveTo>
                  <a:pt x="21600" y="24663"/>
                </a:moveTo>
                <a:lnTo>
                  <a:pt x="0" y="24663"/>
                </a:lnTo>
                <a:lnTo>
                  <a:pt x="1400" y="23263"/>
                </a:lnTo>
                <a:lnTo>
                  <a:pt x="20200" y="23263"/>
                </a:lnTo>
                <a:close/>
              </a:path>
              <a:path fill="lighten" w="21600" h="24663">
                <a:moveTo>
                  <a:pt x="0" y="2466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63"/>
                </a:lnTo>
                <a:close/>
              </a:path>
              <a:path fill="darken" w="21600" h="24663">
                <a:moveTo>
                  <a:pt x="3794" y="5325"/>
                </a:moveTo>
                <a:lnTo>
                  <a:pt x="17806" y="12331"/>
                </a:lnTo>
                <a:lnTo>
                  <a:pt x="3794" y="19338"/>
                </a:lnTo>
                <a:close/>
              </a:path>
            </a:pathLst>
          </a:custGeom>
          <a:solidFill>
            <a:srgbClr val="99cc00"/>
          </a:solidFill>
          <a:ln w="22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35280" y="2997360"/>
            <a:ext cx="55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                           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FELICIT</a:t>
            </a: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ĂRI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324000" y="1052640"/>
            <a:ext cx="3965400" cy="5157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395280" y="260280"/>
            <a:ext cx="8352000" cy="4590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6659640" y="4869000"/>
            <a:ext cx="2160360" cy="1584360"/>
          </a:xfrm>
          <a:custGeom>
            <a:avLst/>
            <a:gdLst>
              <a:gd name="textAreaLeft" fmla="*/ 102600 w 2160360"/>
              <a:gd name="textAreaRight" fmla="*/ 2057760 w 216036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29451" h="21600">
                <a:moveTo>
                  <a:pt x="0" y="0"/>
                </a:moveTo>
                <a:lnTo>
                  <a:pt x="29451" y="0"/>
                </a:lnTo>
                <a:lnTo>
                  <a:pt x="29451" y="21600"/>
                </a:lnTo>
                <a:lnTo>
                  <a:pt x="0" y="21600"/>
                </a:lnTo>
                <a:close/>
              </a:path>
              <a:path fill="lightenLess" w="29451" h="21600">
                <a:moveTo>
                  <a:pt x="0" y="0"/>
                </a:moveTo>
                <a:lnTo>
                  <a:pt x="29451" y="0"/>
                </a:lnTo>
                <a:lnTo>
                  <a:pt x="28051" y="1400"/>
                </a:lnTo>
                <a:lnTo>
                  <a:pt x="1400" y="1400"/>
                </a:lnTo>
                <a:close/>
              </a:path>
              <a:path fill="darken" w="29451" h="21600">
                <a:moveTo>
                  <a:pt x="29451" y="0"/>
                </a:moveTo>
                <a:lnTo>
                  <a:pt x="29451" y="21600"/>
                </a:lnTo>
                <a:lnTo>
                  <a:pt x="28051" y="20200"/>
                </a:lnTo>
                <a:lnTo>
                  <a:pt x="28051" y="1400"/>
                </a:lnTo>
                <a:close/>
              </a:path>
              <a:path fill="darkenLess" w="29451" h="21600">
                <a:moveTo>
                  <a:pt x="29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1" y="20200"/>
                </a:lnTo>
                <a:close/>
              </a:path>
              <a:path fill="lighten" w="29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1" h="21600">
                <a:moveTo>
                  <a:pt x="7719" y="7493"/>
                </a:moveTo>
                <a:lnTo>
                  <a:pt x="11227" y="7493"/>
                </a:lnTo>
                <a:lnTo>
                  <a:pt x="11227" y="12828"/>
                </a:lnTo>
                <a:cubicBezTo>
                  <a:pt x="11227" y="13751"/>
                  <a:pt x="12027" y="14482"/>
                  <a:pt x="13063" y="14482"/>
                </a:cubicBezTo>
                <a:lnTo>
                  <a:pt x="14725" y="14482"/>
                </a:lnTo>
                <a:cubicBezTo>
                  <a:pt x="15761" y="14482"/>
                  <a:pt x="16562" y="13751"/>
                  <a:pt x="16562" y="12828"/>
                </a:cubicBezTo>
                <a:lnTo>
                  <a:pt x="16562" y="7493"/>
                </a:lnTo>
                <a:lnTo>
                  <a:pt x="14725" y="7493"/>
                </a:lnTo>
                <a:lnTo>
                  <a:pt x="18233" y="3985"/>
                </a:lnTo>
                <a:lnTo>
                  <a:pt x="21906" y="7493"/>
                </a:lnTo>
                <a:lnTo>
                  <a:pt x="20070" y="7493"/>
                </a:lnTo>
                <a:lnTo>
                  <a:pt x="20070" y="12828"/>
                </a:lnTo>
                <a:cubicBezTo>
                  <a:pt x="20070" y="15596"/>
                  <a:pt x="17493" y="18155"/>
                  <a:pt x="14725" y="18155"/>
                </a:cubicBezTo>
                <a:lnTo>
                  <a:pt x="13063" y="18155"/>
                </a:lnTo>
                <a:cubicBezTo>
                  <a:pt x="10295" y="18155"/>
                  <a:pt x="7719" y="15596"/>
                  <a:pt x="7719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Animated 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836640"/>
            <a:ext cx="2444760" cy="244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4105080" cy="393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684360" y="0"/>
            <a:ext cx="604836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I  ÎNCEARCĂ  !!!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7451640" y="4941720"/>
            <a:ext cx="1513080" cy="1656000"/>
          </a:xfrm>
          <a:custGeom>
            <a:avLst/>
            <a:gdLst>
              <a:gd name="textAreaLeft" fmla="*/ 97920 w 1513080"/>
              <a:gd name="textAreaRight" fmla="*/ 1415160 w 1513080"/>
              <a:gd name="textAreaTop" fmla="*/ 97920 h 1656000"/>
              <a:gd name="textAreaBottom" fmla="*/ 1558080 h 165600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  <a:path fill="darken" w="21600" h="23640">
                <a:moveTo>
                  <a:pt x="3794" y="8512"/>
                </a:moveTo>
                <a:lnTo>
                  <a:pt x="7301" y="8512"/>
                </a:lnTo>
                <a:lnTo>
                  <a:pt x="7301" y="13848"/>
                </a:lnTo>
                <a:cubicBezTo>
                  <a:pt x="7301" y="14770"/>
                  <a:pt x="8102" y="15502"/>
                  <a:pt x="9138" y="15502"/>
                </a:cubicBezTo>
                <a:lnTo>
                  <a:pt x="10800" y="15502"/>
                </a:lnTo>
                <a:cubicBezTo>
                  <a:pt x="11836" y="15502"/>
                  <a:pt x="12636" y="14770"/>
                  <a:pt x="12636" y="13848"/>
                </a:cubicBezTo>
                <a:lnTo>
                  <a:pt x="12636" y="8512"/>
                </a:lnTo>
                <a:lnTo>
                  <a:pt x="10800" y="8512"/>
                </a:lnTo>
                <a:lnTo>
                  <a:pt x="14308" y="5005"/>
                </a:lnTo>
                <a:lnTo>
                  <a:pt x="17981" y="8512"/>
                </a:lnTo>
                <a:lnTo>
                  <a:pt x="16144" y="8512"/>
                </a:lnTo>
                <a:lnTo>
                  <a:pt x="16144" y="13848"/>
                </a:lnTo>
                <a:cubicBezTo>
                  <a:pt x="16144" y="16616"/>
                  <a:pt x="13568" y="19175"/>
                  <a:pt x="10800" y="19175"/>
                </a:cubicBezTo>
                <a:lnTo>
                  <a:pt x="9138" y="19175"/>
                </a:lnTo>
                <a:cubicBezTo>
                  <a:pt x="6370" y="19175"/>
                  <a:pt x="3794" y="16616"/>
                  <a:pt x="3794" y="1384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Monotype Corsiva"/>
              </a:rPr>
              <a:t>Mai pune mâna pe cart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68360" y="3691080"/>
            <a:ext cx="3029040" cy="3166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59280" y="2852640"/>
            <a:ext cx="3479760" cy="237816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6948360" y="5516640"/>
            <a:ext cx="2016360" cy="1152360"/>
          </a:xfrm>
          <a:custGeom>
            <a:avLst/>
            <a:gdLst>
              <a:gd name="textAreaLeft" fmla="*/ 74520 w 2016360"/>
              <a:gd name="textAreaRight" fmla="*/ 1941840 w 2016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1888" y="7493"/>
                </a:moveTo>
                <a:lnTo>
                  <a:pt x="15396" y="7493"/>
                </a:lnTo>
                <a:lnTo>
                  <a:pt x="15396" y="12828"/>
                </a:lnTo>
                <a:cubicBezTo>
                  <a:pt x="15396" y="13751"/>
                  <a:pt x="16197" y="14482"/>
                  <a:pt x="17233" y="14482"/>
                </a:cubicBezTo>
                <a:lnTo>
                  <a:pt x="18895" y="14482"/>
                </a:lnTo>
                <a:cubicBezTo>
                  <a:pt x="19931" y="14482"/>
                  <a:pt x="20731" y="13751"/>
                  <a:pt x="20731" y="12828"/>
                </a:cubicBezTo>
                <a:lnTo>
                  <a:pt x="20731" y="7493"/>
                </a:lnTo>
                <a:lnTo>
                  <a:pt x="18895" y="7493"/>
                </a:lnTo>
                <a:lnTo>
                  <a:pt x="22403" y="3985"/>
                </a:lnTo>
                <a:lnTo>
                  <a:pt x="26075" y="7493"/>
                </a:lnTo>
                <a:lnTo>
                  <a:pt x="24239" y="7493"/>
                </a:lnTo>
                <a:lnTo>
                  <a:pt x="24239" y="12828"/>
                </a:lnTo>
                <a:cubicBezTo>
                  <a:pt x="24239" y="15596"/>
                  <a:pt x="21663" y="18155"/>
                  <a:pt x="18895" y="18155"/>
                </a:cubicBezTo>
                <a:lnTo>
                  <a:pt x="17233" y="18155"/>
                </a:lnTo>
                <a:cubicBezTo>
                  <a:pt x="14465" y="18155"/>
                  <a:pt x="11888" y="15596"/>
                  <a:pt x="11888" y="12828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19640" y="299736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98" name="">
            <a:hlinkClick r:id="" action="ppaction://hlinkshowjump?jump=previousslide"/>
          </p:cNvPr>
          <p:cNvSpPr/>
          <p:nvPr/>
        </p:nvSpPr>
        <p:spPr>
          <a:xfrm>
            <a:off x="7380360" y="5084640"/>
            <a:ext cx="1512720" cy="158436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584360"/>
              <a:gd name="textAreaBottom" fmla="*/ 1486440 h 1584360"/>
            </a:gdLst>
            <a:ahLst/>
            <a:rect l="textAreaLeft" t="textAreaTop" r="textAreaRight" b="textAreaBottom"/>
            <a:pathLst>
              <a:path w="21600" h="22623">
                <a:moveTo>
                  <a:pt x="0" y="0"/>
                </a:moveTo>
                <a:lnTo>
                  <a:pt x="21600" y="0"/>
                </a:lnTo>
                <a:lnTo>
                  <a:pt x="21600" y="22623"/>
                </a:lnTo>
                <a:lnTo>
                  <a:pt x="0" y="22623"/>
                </a:lnTo>
                <a:close/>
              </a:path>
              <a:path fill="lightenLess" w="21600" h="22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623">
                <a:moveTo>
                  <a:pt x="21600" y="0"/>
                </a:moveTo>
                <a:lnTo>
                  <a:pt x="21600" y="22623"/>
                </a:lnTo>
                <a:lnTo>
                  <a:pt x="20200" y="21223"/>
                </a:lnTo>
                <a:lnTo>
                  <a:pt x="20200" y="1400"/>
                </a:lnTo>
                <a:close/>
              </a:path>
              <a:path fill="darkenLess" w="21600" h="22623">
                <a:moveTo>
                  <a:pt x="21600" y="22623"/>
                </a:moveTo>
                <a:lnTo>
                  <a:pt x="0" y="22623"/>
                </a:lnTo>
                <a:lnTo>
                  <a:pt x="1400" y="21223"/>
                </a:lnTo>
                <a:lnTo>
                  <a:pt x="20200" y="21223"/>
                </a:lnTo>
                <a:close/>
              </a:path>
              <a:path fill="lighten" w="21600" h="22623">
                <a:moveTo>
                  <a:pt x="0" y="22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223"/>
                </a:lnTo>
                <a:close/>
              </a:path>
              <a:path fill="darken" w="21600" h="22623">
                <a:moveTo>
                  <a:pt x="3794" y="8004"/>
                </a:moveTo>
                <a:lnTo>
                  <a:pt x="7301" y="8004"/>
                </a:lnTo>
                <a:lnTo>
                  <a:pt x="7301" y="13339"/>
                </a:lnTo>
                <a:cubicBezTo>
                  <a:pt x="7301" y="14262"/>
                  <a:pt x="8102" y="14993"/>
                  <a:pt x="9138" y="14993"/>
                </a:cubicBezTo>
                <a:lnTo>
                  <a:pt x="10800" y="14993"/>
                </a:lnTo>
                <a:cubicBezTo>
                  <a:pt x="11836" y="14993"/>
                  <a:pt x="12636" y="14262"/>
                  <a:pt x="12636" y="13339"/>
                </a:cubicBezTo>
                <a:lnTo>
                  <a:pt x="12636" y="8004"/>
                </a:lnTo>
                <a:lnTo>
                  <a:pt x="10800" y="8004"/>
                </a:lnTo>
                <a:lnTo>
                  <a:pt x="14308" y="4496"/>
                </a:lnTo>
                <a:lnTo>
                  <a:pt x="17981" y="8004"/>
                </a:lnTo>
                <a:lnTo>
                  <a:pt x="16144" y="8004"/>
                </a:lnTo>
                <a:lnTo>
                  <a:pt x="16144" y="13339"/>
                </a:lnTo>
                <a:cubicBezTo>
                  <a:pt x="16144" y="16107"/>
                  <a:pt x="13568" y="18666"/>
                  <a:pt x="10800" y="18666"/>
                </a:cubicBezTo>
                <a:lnTo>
                  <a:pt x="9138" y="18666"/>
                </a:lnTo>
                <a:cubicBezTo>
                  <a:pt x="6370" y="18666"/>
                  <a:pt x="3794" y="16107"/>
                  <a:pt x="3794" y="13339"/>
                </a:cubicBezTo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7:21:50Z</dcterms:created>
  <dc:creator>no name</dc:creator>
  <dc:description/>
  <dc:language>en-US</dc:language>
  <cp:lastModifiedBy>IULIA</cp:lastModifiedBy>
  <dcterms:modified xsi:type="dcterms:W3CDTF">2009-04-02T12:56:59Z</dcterms:modified>
  <cp:revision>15</cp:revision>
  <dc:subject/>
  <dc:title>Slide 1</dc:title>
</cp:coreProperties>
</file>